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5C9A1A-AAD9-4B5C-A50F-9ED4CB92D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14E56-39D5-4B89-8E11-D70F1A70C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ED3099-1517-48FF-BB93-DA9FE92DA7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ED4195-1C19-4841-AD96-8A67AB089E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6C745-9769-4DA4-B167-9514153AA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1EF67-9EBE-4BCA-A768-7D57BF510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F9ABA-767D-4A0A-AA76-5CF5F9BE8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7B6E9-0ECA-4B06-8551-E86AC850A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AAB56-7445-4AFF-8E19-9A28065BB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B68E7-5D9F-4E35-B48E-49F9487A2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ADE5A-DFC5-42EE-9E2E-5D9AAC144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18CC1-87F7-45F8-B03A-421DB4F474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94047-DEA6-4EE5-922C-4B3CF9EFC2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othermal Energ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y Jessica ,Katie, Anna &amp;Pai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othermal Energy</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othermal Energy comes from heat stored in the ear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nergy comes from the radioactive decay of minerals and solar energy absorbed from Earth’s surf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es from geo meaning earth and thermal meaning heat “earth he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sons to use Geothermal Energy</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st effici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i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vironmental friend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newable energ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ks just like a normal heat pump except uses heat stored in the Earth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it works</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3 basic types of geothermal power plan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ry steam plants - use steam piped directly from a geothermal reservoir to turn the generator turbine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lash steam plants - take high-pressure hot water from deep inside the earth and convert it to steam to drive the generator turbines. When the steam cools, it condenses to water and is injected back into the ground to be used over and over again. (the most commonly used typ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inary power plants - transfer the heat from geothermal hot water to another liquid. The heat causes the second liquid to turn to steam which is used to drive a generator turbine.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es of geothermal energy</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at pumps</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t water energy source</a:t>
            </a:r>
            <a:endParaRPr b="0" lang="en-US" sz="32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wer plants</a:t>
            </a:r>
            <a:br>
              <a:rPr sz="3200"/>
            </a:br>
            <a:r>
              <a:rPr b="0" lang="en-US" sz="3200" spc="-1" strike="noStrike">
                <a:solidFill>
                  <a:srgbClr val="000000"/>
                </a:solidFill>
                <a:latin typeface="Calibri"/>
              </a:rPr>
              <a:t>	</a:t>
            </a:r>
            <a:r>
              <a:rPr b="0" lang="en-US" sz="2800" spc="-1" strike="noStrike">
                <a:solidFill>
                  <a:srgbClr val="000000"/>
                </a:solidFill>
                <a:latin typeface="Calibri"/>
              </a:rPr>
              <a:t>-California - has 33 geothermal power plants</a:t>
            </a:r>
            <a:endParaRPr b="0" lang="en-US" sz="2800" spc="-1" strike="noStrike">
              <a:solidFill>
                <a:srgbClr val="000000"/>
              </a:solidFill>
              <a:latin typeface="Calibri"/>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Nevada - has 14 geothermal power plants.            </a:t>
            </a:r>
            <a:endParaRPr b="0" lang="en-US" sz="2800" spc="-1" strike="noStrike">
              <a:solidFill>
                <a:srgbClr val="000000"/>
              </a:solidFill>
              <a:latin typeface="Calibri"/>
            </a:endParaRPr>
          </a:p>
          <a:p>
            <a:pPr lvl="1" marL="698400" indent="-268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Hawaii and Utah - each have one geothermal plant</a:t>
            </a:r>
            <a:endParaRPr b="0" lang="en-US" sz="28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According to the U.S. Environmental Protection Agency (EPA), geothermal heat pumps are the most energy-efficient, environmentally clean, and cost-effective systems for temperature control.”</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vironmental Impact</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used properly there is no environmental impa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low emissions lev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times when geothermal drilling occurs greenhouses could be released from inside the earth which could cause global warm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4T12:23:14Z</dcterms:created>
  <dc:creator> </dc:creator>
  <dc:description/>
  <dc:language>en-US</dc:language>
  <cp:lastModifiedBy> </cp:lastModifiedBy>
  <dcterms:modified xsi:type="dcterms:W3CDTF">2009-05-01T12:07:42Z</dcterms:modified>
  <cp:revision>7</cp:revision>
  <dc:subject/>
  <dc:title>Geothermal Energy</dc:title>
</cp:coreProperties>
</file>